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D19-B361-464A-A4C0-2C11D67E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6BA-C74E-41C1-96D7-54E16544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22D-0370-4518-8618-FA05DBCD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5B3-62CB-4084-B393-235957FC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DE88-1B9C-44DC-BBF1-F2F73849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AC84-3BC1-4965-9B24-3BD1CED0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1CF-AD68-4744-9C7E-C97E1CBD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7D5E-6034-4FA8-BC2A-6973DEC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6780-2701-469F-8D52-0CDD3FD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772B-4349-44F8-B890-1D5F17D0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B38-AC44-40B9-B3D0-02F7B96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55A-528C-4828-9881-7AB9D22C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146E-DB3C-421C-B7E3-9C0F360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EB90-B63B-4C93-A13C-F84937E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E725-2CF3-40A2-B969-A199176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7CC0-2333-47DA-B6AD-1A233BD4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F9EC-94C6-4EE7-99E8-0064B635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4ED-5C73-4D27-AB43-A546F2A5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293-C190-45B1-9226-58681E2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630-19F1-4532-856E-B6756ECD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A23-A773-4F85-BC04-227CCC1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B95-D3FE-4590-9EC2-78C96A6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63C-EE7A-41A3-B638-D52C2CB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20C-6DB2-4F46-A282-E652E67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461C-D0DA-45A1-91EE-062C7B6236F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62EA-048F-4934-834A-82D41D00AA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ffffcc"/>
                </a:solidFill>
                <a:latin typeface="Arial"/>
              </a:rPr>
              <a:t>GRADINA VIRTUALA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Verdana"/>
              </a:rPr>
              <a:t>=IERBARUL MEU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Prof.Stela Negoescu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990800" cy="19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de-DE" sz="4400" spc="-1" strike="noStrike">
                <a:solidFill>
                  <a:srgbClr val="ffffcc"/>
                </a:solidFill>
                <a:latin typeface="Arial"/>
              </a:rPr>
              <a:t>MUSETELU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Matricaria Chamomilla,face parte din familia Compositae.Planta se cultiva pentru inflorescentele sale,cunoscute in farmacie sub denumirea de Flores chamomile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Creste si spontan pe langa drumuri,pajisti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Este o planta ierboasa ,anuala si infloreste din iulie pana in august.Intreaga planta de musetel emana o aroma placuta,caracte-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ristica,datorita uleiului volatil pe care il contine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Recoltatul florilor se face in mai multe etape,deoarece durata de inflorire este lunga.Recoltarea se face numai pe timp frumos,uscat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Musetelul este recomandat pentru boli de stomac si diferite rani infectate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038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Arial"/>
              </a:rPr>
              <a:t>SUNATOAR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Hypericum perforatu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am.Hypericacea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Numita popular si pojarnita sau neruja,creste spontan in zonele deluroase si de munte pe pajistile insorit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Tulpinile sunt drepte cu frunze mici rotunjite iar inflorescentele sunt alcatuite din flori mici ,galbene cu stamine stralucitoar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folosita in afectiuni precum: alergii,eczeme si iritatii ale pielii,in afectiuni dentare,gastrice ,nervoas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IEDERA – Hedera heli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o planta cu tulpini si ramificatii lemnificate,sub-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tiri si lungi,care pot atarna, sau se fixeaza cu ajutorul radacinilor adventive de trunchiul copacilor sau de zidurile caselor vech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SOC = Sambucus nigra</a:t>
            </a:r>
            <a:br>
              <a:rPr sz="3200"/>
            </a:b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Fam.Caprifoliacea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Arbust cu crestere dreapta si viguroasa,ajunge pana la 5-7m inalti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comun in toata tara,crescand prin paduri,lunci si tufisur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Inflorescentele sunt mari,albe,puternic parfumat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folosit in tratarea multor boli:raceli,guturai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stari febrile,boli ale rinichilor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cure de slabire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ISOPUL-Hyssopus officinalis</a:t>
            </a:r>
            <a:br>
              <a:rPr sz="3200"/>
            </a:b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Fam. Lamiacea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o planta perena care creste 20-50 cm,si are flori alastre-violacee,rosietice sau albe,in inflorescenta spiciform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planta medicinala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fiind folosita sub forma de ceaiuri dar si planta melifera si ornamentala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fiind cultivata pentru decorarea bordurilor de prin gradini si parcur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COADA SORICELULUI 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Achillea millefolium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Fam.Asteracea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planta nepretentioasa la conditiile de mediu,fiind intalnita in toate zonele din tara noastra:poieni,fanete,et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lorile sunt albe sau trandafirii si au un parfum aromatic,acri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sor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folosita in tratamentul ciclului neregulat,amelioreaza starea femeilor aflate in menopauza,stimuleaza pofta de mancare.De asemenea este folosita in ulcere,hemo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ragii stomacale,balonari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istit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URZICA MOARTA</a:t>
            </a:r>
            <a:br>
              <a:rPr sz="2800"/>
            </a:b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Lamium album- Fam.Lamiacea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planta vivace,ierboasa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u tulpina din patru muchii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putin paroasa,cu frunze opus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ovale,dintate pe margini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lorile sunt mari,albe, cu cor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la tubuloasa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reste prin locuri umbroas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pe langa tufisuri,ziduri,gardu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si la margini de poieni de la campie pana in etajul subalpi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a planta medicinala,are un efect sedativ,emolient,expec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torant,diuretic,antidiarei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TRAISTA CIOBANULUI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Capsella bursa-pastoris 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Fam.Brassicacea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planta anuala care apare primavara devrem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raspandita pe terenurile cultivate si necultivate pana in etajul subalpi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lorile sunt mici,asezate pe o codita lunga,iar fructul are forma triunghiulara asemana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toare cu traista ciobanilo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buruiana daunatoare semanaturilor dar ca planta medicinala are intrebuintari hemostatic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41:12Z</dcterms:created>
  <dc:creator>Peter</dc:creator>
  <dc:description/>
  <dc:language>en-US</dc:language>
  <cp:lastModifiedBy>Peter</cp:lastModifiedBy>
  <dcterms:modified xsi:type="dcterms:W3CDTF">2009-10-18T14:18:44Z</dcterms:modified>
  <cp:revision>10</cp:revision>
  <dc:subject/>
  <dc:title>GRADINA VIRTUALA</dc:title>
</cp:coreProperties>
</file>